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23.png" ContentType="image/pn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2.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BB8C-24B8-470B-9A1F-5962DAEB5D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2A37-3938-4C92-9ACE-938F0DABC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8ADE-E9B0-4075-8256-421C30980BC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3"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9469-6A9C-4336-8D3E-83865BA98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150920" y="698400"/>
            <a:ext cx="4653000" cy="3490920"/>
          </a:xfrm>
          <a:prstGeom prst="rect">
            <a:avLst/>
          </a:prstGeom>
          <a:ln w="0">
            <a:noFill/>
          </a:ln>
        </p:spPr>
      </p:sp>
      <p:sp>
        <p:nvSpPr>
          <p:cNvPr id="177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50920" y="698400"/>
            <a:ext cx="4653000" cy="3490920"/>
          </a:xfrm>
          <a:prstGeom prst="rect">
            <a:avLst/>
          </a:prstGeom>
          <a:ln w="0">
            <a:noFill/>
          </a:ln>
        </p:spPr>
      </p:sp>
      <p:sp>
        <p:nvSpPr>
          <p:cNvPr id="177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t>
            </a:r>
            <a:endParaRPr b="0" lang="en-US" sz="1200" spc="-1" strike="noStrike">
              <a:solidFill>
                <a:srgbClr val="000000"/>
              </a:solidFill>
              <a:latin typeface="Calibri"/>
            </a:endParaRPr>
          </a:p>
        </p:txBody>
      </p:sp>
      <p:sp>
        <p:nvSpPr>
          <p:cNvPr id="177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E58E-E6E8-4B71-BB2C-FDB5A2E81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50920" y="698400"/>
            <a:ext cx="4653000" cy="3490920"/>
          </a:xfrm>
          <a:prstGeom prst="rect">
            <a:avLst/>
          </a:prstGeom>
          <a:ln w="0">
            <a:noFill/>
          </a:ln>
        </p:spPr>
      </p:sp>
      <p:sp>
        <p:nvSpPr>
          <p:cNvPr id="178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E21B-1986-44E4-B640-5AD334CFE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50920" y="698400"/>
            <a:ext cx="4653000" cy="3490920"/>
          </a:xfrm>
          <a:prstGeom prst="rect">
            <a:avLst/>
          </a:prstGeom>
          <a:ln w="0">
            <a:noFill/>
          </a:ln>
        </p:spPr>
      </p:sp>
      <p:sp>
        <p:nvSpPr>
          <p:cNvPr id="178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DBEC-8A66-4E91-ABFD-589254537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50920" y="698400"/>
            <a:ext cx="4653000" cy="3490920"/>
          </a:xfrm>
          <a:prstGeom prst="rect">
            <a:avLst/>
          </a:prstGeom>
          <a:ln w="0">
            <a:noFill/>
          </a:ln>
        </p:spPr>
      </p:sp>
      <p:sp>
        <p:nvSpPr>
          <p:cNvPr id="178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5142-8B8D-4815-B636-1703C2A8B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50920" y="698400"/>
            <a:ext cx="4653000" cy="3490920"/>
          </a:xfrm>
          <a:prstGeom prst="rect">
            <a:avLst/>
          </a:prstGeom>
          <a:ln w="0">
            <a:noFill/>
          </a:ln>
        </p:spPr>
      </p:sp>
      <p:sp>
        <p:nvSpPr>
          <p:cNvPr id="178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2AD7-EB39-4491-95BC-25DB6253B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50920" y="698400"/>
            <a:ext cx="4653000" cy="3490920"/>
          </a:xfrm>
          <a:prstGeom prst="rect">
            <a:avLst/>
          </a:prstGeom>
          <a:ln w="0">
            <a:noFill/>
          </a:ln>
        </p:spPr>
      </p:sp>
      <p:sp>
        <p:nvSpPr>
          <p:cNvPr id="17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547E-D5A0-4E6A-A2B9-442508A48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50920" y="698400"/>
            <a:ext cx="4653000" cy="3490920"/>
          </a:xfrm>
          <a:prstGeom prst="rect">
            <a:avLst/>
          </a:prstGeom>
          <a:ln w="0">
            <a:noFill/>
          </a:ln>
        </p:spPr>
      </p:sp>
      <p:sp>
        <p:nvSpPr>
          <p:cNvPr id="17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E610-6339-4278-B513-3A7AE1E84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50920" y="698400"/>
            <a:ext cx="4653000" cy="3490920"/>
          </a:xfrm>
          <a:prstGeom prst="rect">
            <a:avLst/>
          </a:prstGeom>
          <a:ln w="0">
            <a:noFill/>
          </a:ln>
        </p:spPr>
      </p:sp>
      <p:sp>
        <p:nvSpPr>
          <p:cNvPr id="17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9074-B67F-4030-8E41-24FB08DA2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50920" y="698400"/>
            <a:ext cx="4653000" cy="3490920"/>
          </a:xfrm>
          <a:prstGeom prst="rect">
            <a:avLst/>
          </a:prstGeom>
          <a:ln w="0">
            <a:noFill/>
          </a:ln>
        </p:spPr>
      </p:sp>
      <p:sp>
        <p:nvSpPr>
          <p:cNvPr id="180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E57A-33F6-4492-B2C7-C88A97A71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50920" y="698400"/>
            <a:ext cx="4653000" cy="3490920"/>
          </a:xfrm>
          <a:prstGeom prst="rect">
            <a:avLst/>
          </a:prstGeom>
          <a:ln w="0">
            <a:noFill/>
          </a:ln>
        </p:spPr>
      </p:sp>
      <p:sp>
        <p:nvSpPr>
          <p:cNvPr id="180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CE63-1369-435F-8AF0-2BE1066B7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50920" y="698400"/>
            <a:ext cx="4653000" cy="3490920"/>
          </a:xfrm>
          <a:prstGeom prst="rect">
            <a:avLst/>
          </a:prstGeom>
          <a:ln w="0">
            <a:noFill/>
          </a:ln>
        </p:spPr>
      </p:sp>
      <p:sp>
        <p:nvSpPr>
          <p:cNvPr id="180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253E-9A97-4B19-9808-B31129FFE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50920" y="698400"/>
            <a:ext cx="4653000" cy="3490920"/>
          </a:xfrm>
          <a:prstGeom prst="rect">
            <a:avLst/>
          </a:prstGeom>
          <a:ln w="0">
            <a:noFill/>
          </a:ln>
        </p:spPr>
      </p:sp>
      <p:sp>
        <p:nvSpPr>
          <p:cNvPr id="181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 Problem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with lesson and have principals record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talk around their table to see what common thing they recorded about the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  “What did you observe that showed how students interact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D11B-5EBF-4971-B04A-B30F96953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D88E-2754-4915-A406-44F697DA4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50920" y="698400"/>
            <a:ext cx="4653000" cy="3490920"/>
          </a:xfrm>
          <a:prstGeom prst="rect">
            <a:avLst/>
          </a:prstGeom>
          <a:ln w="0">
            <a:noFill/>
          </a:ln>
        </p:spPr>
      </p:sp>
      <p:sp>
        <p:nvSpPr>
          <p:cNvPr id="181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65DE-C202-4280-8D7B-26A916829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50920" y="698400"/>
            <a:ext cx="4653000" cy="3490920"/>
          </a:xfrm>
          <a:prstGeom prst="rect">
            <a:avLst/>
          </a:prstGeom>
          <a:ln w="0">
            <a:noFill/>
          </a:ln>
        </p:spPr>
      </p:sp>
      <p:sp>
        <p:nvSpPr>
          <p:cNvPr id="181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1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1D3D-8B18-408A-BAA8-24BA76506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50920" y="698400"/>
            <a:ext cx="4653000" cy="3490920"/>
          </a:xfrm>
          <a:prstGeom prst="rect">
            <a:avLst/>
          </a:prstGeom>
          <a:ln w="0">
            <a:noFill/>
          </a:ln>
        </p:spPr>
      </p:sp>
      <p:sp>
        <p:nvSpPr>
          <p:cNvPr id="181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2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4A73-DEDC-45F8-9306-B598050B6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50920" y="698400"/>
            <a:ext cx="4653000" cy="3490920"/>
          </a:xfrm>
          <a:prstGeom prst="rect">
            <a:avLst/>
          </a:prstGeom>
          <a:ln w="0">
            <a:noFill/>
          </a:ln>
        </p:spPr>
      </p:sp>
      <p:sp>
        <p:nvSpPr>
          <p:cNvPr id="182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F939-B351-470D-8A92-E5F495933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50920" y="698400"/>
            <a:ext cx="4653000" cy="3490920"/>
          </a:xfrm>
          <a:prstGeom prst="rect">
            <a:avLst/>
          </a:prstGeom>
          <a:ln w="0">
            <a:noFill/>
          </a:ln>
        </p:spPr>
      </p:sp>
      <p:sp>
        <p:nvSpPr>
          <p:cNvPr id="182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D15E-3C35-43D1-9655-2FAF47189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A60F-4A7D-4859-BBE9-093FC8242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C00A-982A-459D-A8D9-8695D5904AF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67" name="PlaceHolder 1"/>
          <p:cNvSpPr>
            <a:spLocks noGrp="1"/>
          </p:cNvSpPr>
          <p:nvPr>
            <p:ph type="sldImg"/>
          </p:nvPr>
        </p:nvSpPr>
        <p:spPr>
          <a:xfrm>
            <a:off x="1150920" y="698400"/>
            <a:ext cx="4653000" cy="3490920"/>
          </a:xfrm>
          <a:prstGeom prst="rect">
            <a:avLst/>
          </a:prstGeom>
          <a:ln w="0">
            <a:noFill/>
          </a:ln>
        </p:spPr>
      </p:sp>
      <p:sp>
        <p:nvSpPr>
          <p:cNvPr id="176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574B-648C-4663-BC15-CF2255479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A06B1-D163-49E8-8726-523486E3E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0AD3-F992-41C6-A38F-AEDEFC5F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DC32950-0081-4B66-9869-D500F2216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35E2112-2481-46AB-B436-41BE12ABFC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DA288C3-6991-4629-AE9F-3BFD473685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3A8E784-F7CE-4905-8184-BB4E22908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31F0B00-8E83-4281-8A4E-644CF1C4C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4235DCC-98B5-4196-B8E4-67A9203D28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C3D392A-5378-4E82-9E02-AAABC4FB5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1A93180-A3CA-4D40-8279-EAD23E66A5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9C8F951-AAFA-4F66-8F78-B0D79C8E5C1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65FDE28-49E6-435E-B2D1-EFD1AADE791B}"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0706F-C8BE-4D71-8D33-B13552333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55F56C9-5515-4875-BA96-0D8CC61BD0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AC3F5B4-7EE8-4021-B661-D01E640FD0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A622344-5A96-468D-B75F-A6B4984F0B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22CFA242-9FC7-4644-A47B-E08C669982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72D45BF-A992-414A-885E-E1C47B8096F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3734972-C187-46AC-A487-C6E959103F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67F72A9-1204-4C1C-85DB-8C19A7687A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B53BE96-FFFB-4A3B-9A38-479BBD0E7A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60B222F8-62D8-4412-8001-C08AA132995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38AFB072-6E0C-410A-B22F-C299880620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99490-6125-463D-8E36-836C7C89C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260832CC-4B8B-4422-9680-628E7762FD7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70E17E9-F437-4D4F-96A4-2BF50FFCB5E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8E26819-1959-4F95-95C9-D753B552910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6DA18DB-9C09-4F04-999D-CE7784F805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FBBE3E3-C113-4B84-9BDE-DF71D610CE2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BEBBC7A-14D7-4193-9054-193E2BDB03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BA7C8AF-1F0B-4D9B-AAF5-D8882995CA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76F052-AC55-4712-8A84-C48055249A6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493913-CDE3-4F07-9372-CAF4E27FBBE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B91060A-7B48-4416-AC6F-ABFBA015774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0CB067-A78D-418A-A7CC-267F7E6C6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580C945-C2A6-42DF-B942-9802BEE5951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4E87D89-A283-4F62-B232-68B71CD82BE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0D13C04-CD8E-40EF-8D2D-1AF57577250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25E517B-48E3-4685-B578-A03CEAECC2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76C741B-B71A-41F1-AC9C-9A0DB328C3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43FFF63-76F7-46AC-975E-12E9B32C28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39A3D63-D67C-4176-BE10-81CBD41D5C9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54DD71-3F08-4378-9A4E-6F012324D5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5862CDE-13CF-4C23-B39A-6D101E491D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CC6E4FA-6E21-4941-8088-E4356EB4FD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1F968-C5DE-4588-A5F5-CCFD30147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C4E08F1-7327-4CE2-B55F-D12A7609B0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0D664D4-1DD0-4B15-8EFD-D28E7F0CDB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69B2279-176F-4F07-8477-D2E4756DD17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35DF461-15DA-4010-B0E7-CEA86E3440C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E412287-EEE3-42B1-A5E7-A73670BBC6D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1B3A02F-587A-48FB-B1E6-3A49CC8257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58BE615-8465-4283-818D-667C0DBD0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9493238-4A27-49EE-AEBB-59B239AE6B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9CBCCD5-2583-4978-8D5B-E579C7E240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EC181F0-4A42-4B00-BA18-AA52AAA281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8334B-CC63-473E-B7C5-7C1E38313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E754E71-F593-4AEA-9C5F-4A3ABC436C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5DE40E8-3A52-4730-9D88-1A8A3ECF09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1FC6A18-74A4-48FF-830E-064A4A09C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BE233D5-CFD5-47E7-8882-DE99A3375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C762DF8-23F5-4D44-9E9A-704F62E423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E9C9C8B-E294-4F54-AE48-38BED02D58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FDC040C-9CA8-4DC6-ACAA-A09D127EEC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4450BA5-6DA6-4332-A6DB-5DF13CA3DF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FB71BA4-D087-4F8E-BF19-923530BBFE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BC94960-5FE5-4208-A274-61A6ECABE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754F6-4489-4484-A08E-A39E5FE55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DB07267-AB5E-435B-9FFD-C1DFE4CE7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979D898-E74B-4B9E-BC3D-C762C616B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8212730-A8F3-40D1-A5DE-6F7E5D8D96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81FA65F-7A06-4233-AB54-20B0E1518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26A3E1B-67BB-414E-A7FA-2532979AC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64BDC8D-FD8E-4D1A-94E4-CBA1E34168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E504F09-CA57-41FC-A09F-A2899757F3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763CEFB-7BF3-421C-96BE-4DDCD748C6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88C6F16-61DD-471A-AE78-F74AACE960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DAEDC26-0836-4060-9AAA-D2610A66E5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69ED8-457E-4D9C-AA7E-074BE9784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3A9A4E9-B11F-4CF2-84B8-D6EE6A916E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0401394-A476-4860-969C-0D4F15BB12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7E217E7-AB67-4C37-9E30-3DB9779562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72F3258-09D9-43F7-94D8-1A85BF1840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F728622-CE9A-40EE-9A17-1C3410A8BF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2288757-8632-4213-91B2-D8FB43E5B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4CD17F0-630F-4897-905B-84273BD58D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F4A2DB5-6CF4-4B8A-8E61-9118E0E57F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E878E9D-95D6-44E2-AA5E-919D81963A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6123715-249D-472F-82D8-0D03FB1D07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71363-6DA1-423C-B82D-BED33C303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C8B7E85-A79E-42CC-9B21-1AF8791CB8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346398F-EBFC-4569-AF62-36F3C52B00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0B8865A-A98C-4222-A52E-F6F370E099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8309822-7B3D-4D89-AB45-97D758E496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81BEB6F-0486-4F39-BE25-BD85012776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6736090-95EA-4AEA-A633-3290864A1B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2907529-D349-4089-86A4-4998C36DA2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2E0DAB-39BD-4064-BEBB-997EB38EED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CEE14F6-3BB5-4B37-84B0-FC7E4ACF3F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CD84870-2646-4288-BE8F-203C8AE15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C6EEF-19F6-4297-B4EF-81C77B9E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914052E-D6A6-4756-BD70-69CCEF9CAA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F7FC572-8507-47A9-83E2-61E224E74B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6AF6AB1-1C97-4F2F-9032-0E124D997C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6DF5262-AD1C-44D2-BA45-B704B21E70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016CAF7-BFDC-425A-B625-E76A2F1D09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B07BB00-45E0-4EE6-8D77-2AB88FF931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B1CCE5B-3A4D-4C9B-BBF6-37D445146F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7A3AA44-2B19-4E30-8781-2B96500C1B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A3B09FC-5371-4150-94AC-916FBBF86E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C821629-6763-4394-A01B-7BFC57E18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F755-AC6D-4252-A3BF-0F2E00CD6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7A3C7-39E3-4CAC-AF42-6D3B06ABB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999A114-2BAB-4458-8C65-62C1534FC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D92D5B1-BCF6-4EF5-84B2-556CC035A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21BF479-156C-4FB3-B8E7-DEC38986BB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20DB859-88BF-4DA0-9B3E-9FD3F95553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FE3C24B-EBAE-4885-B77D-B7D61A4DFB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7716E06-7BBC-4B77-B700-0642DF3BF8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52CDF4F-3FAB-487E-BE8C-7BAA4BF569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336D71E-C3EA-49D7-BCA1-7CB10CF6BE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3D5D37B-CA9D-4072-A5B5-DFBC750809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09875D3-E5A5-4564-BE2F-7BFC76662E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95F3-61FC-41A1-9047-983954FE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C190F6-D3E9-4109-ABE7-D6C0C7E986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B976E6E-09A7-4457-ABA1-E305E19A9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05A3976-5444-4724-B913-3A789432B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6E88B1E-E161-462D-9A20-2A2414BE3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57402B8-9242-4D69-AACB-175426F004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6E9D70F-3751-4E8D-BE37-89A122A470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C236AEA-09A9-45F7-97D7-E9445F03E4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65CEDC4-4546-4EED-AA9A-8FC481017A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B66A3D7-2F19-41E7-946A-B317E2AFD6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B5BB93B-8FD3-4419-AB0D-BCF881AB53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9C2CD-8A76-4745-A5A0-ED593DA68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17206DC-F7E3-4FBF-A680-3879B53C89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4ACD161-C6AE-4719-9124-1C5AA0AFA5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ACF7FD2-5222-4118-99FE-5B7216BC1C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EF2BFA6-AC37-49FA-97F0-C6EE667C2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BA0C06B-AC83-4210-9B87-CCE84FE75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A226940-DB25-4967-8020-AEBB833421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93F376A-DB4F-4EE6-8590-192E04A51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A062579B-699D-4A2D-823A-1789F02855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9036C35-7B50-4AD0-9B1C-61BEAAFE04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17819B4-B668-4C1D-9248-2452D595AFE5}"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58580-D480-41A7-8FBD-8396B310D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D7544DC6-0982-412B-B070-83438501EF4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4FDD5691-D7B0-4D51-B4AD-934406EB6E5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69FD7C40-DCC6-4EAA-A861-2BEBF4D9ECB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371DF369-BB0B-4204-8974-C8558BA29DB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A609E4E5-7B99-44D7-A583-8D1EF171342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DBE360C2-20C3-4F47-A460-15725F8AE4C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1E834BDC-F3B8-4BEA-96EC-E8B3C7A3A46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8CF0AAF-99FC-4DA8-98E9-46A237FE72A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618F9D1-E41E-4396-88EE-10C95720E28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296CE876-9358-435A-A263-56B9C4946AC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A573C-A9D4-4FA8-BAD9-5595E176D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89465058-7541-469B-A4DD-465E3372A068}"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00BC474-40EF-469A-8A21-0C7F40E570F1}"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48F1CF85-A40D-49EC-ADCA-917A79E09AC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D19AEA08-7E32-45EA-BDF2-439C3922B79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16671208-5A93-4E64-837C-ABE67094700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934D6672-3611-41E7-AFB8-5770DD66DC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5AC02636-E75B-4789-90BD-865A7B27D7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0A79871-C6DC-4111-80A3-D7294A8A21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C5C0396-AB3E-49A8-A59A-DA9EF0707DE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CCECB61D-2E2F-4457-BDD1-F9E603DE1D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2F2CA2-77DE-40F1-826B-F1984CF097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176ABA4-7A60-4FF9-A3C1-4FB56AC614A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D2775155-648F-42B0-810E-57447723F7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7C12AC72-18AC-43C5-AB77-6F3216A04C84}"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B6F4B935-AED9-495D-A006-965071B8D335}"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505458F-206F-4E08-8FC6-87E7E7CDD3B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ECDDD7B-A72C-4E88-9C09-96D35142213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375A254-B8A0-437D-A824-BA8FB710F04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2E81AED-1358-4650-AF87-9733158B896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D167514-DBA4-4373-8D7B-237BD957414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D922E16-D321-4B16-8E9F-A389FDF20BE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E33303-0159-4687-A077-5380516B8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2BFB5F2-CC30-4A3D-94D6-C5074A533F1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7E7370A-9D0F-4E4C-AA06-4D54ABD2C43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2E6A34F-BD3C-453F-9554-84DC63A0B44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25FCBCE-5442-44D0-98BA-4A9DD2C1A734}"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9741DA8-40E4-4BF8-AFC3-9EA44D1B2E9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146B7A7C-A1E5-402F-B87A-23D0FE6A8D9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1457E01-46D3-4808-ACCA-C3CD73EC857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A16001C-1CED-476C-A8E2-BCA03BBCF6A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EE9A68E-09AF-4734-9265-94BA95C4A72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12399CF-FA00-46B8-8BE7-F63DD7677C7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B7FF9-0C12-49AC-BC18-6BA837259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1587FBB5-5330-4DBD-9941-55A53D1EAA8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B973C8E-F418-45CB-A941-E6B0F8B42AD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1A5B7E3-7794-4131-A909-A9722EC662B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55238BF-8431-473E-86BF-02BF3ED3F31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7F83531D-FCF1-4604-ACE9-095417B862E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CB80908C-3A66-47A7-A658-D8EEA78141E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A2EC53C7-EBFA-4D22-A01A-5EC006BCE3D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B5A028E9-73A9-4D7D-8075-46CFF926D58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BD2306A-FAE5-417C-8073-A6DD250BFE6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C23FCD2-1F31-4D6D-8D89-D45CB6A4405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C43C1-3171-47BA-9043-7B62F0B06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7798013-3A3E-4C27-AED0-348A2B9A7AC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7536284-951A-4114-891E-B39C68EB622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AEBAD90-2013-46AB-8AE5-30211988253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32717BF-D23E-4166-86ED-14B45225F8C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CC25190-C571-4938-90AC-8759B0B86CB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5EDA676-1276-4A11-8666-FA74DF2A022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B3FE4E1-1B66-408E-8E6C-F4EB0E5A316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E5CD5A5-B827-4BB7-8658-47A67F935932}"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86A151FF-B515-49FD-A938-4E724525FFF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5BC657D-A69F-4CD6-9F6D-3FB2CD82101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60553A-3C65-4E7B-A533-174DC60C9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201C9D0-BFCD-48F7-8B88-504EEA26E14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4CD2284-F608-43B8-AFD7-50F6A55BAF8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4E7F854-295B-4751-AED0-94FCCC1202A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9DBD592-B6FD-4696-AD36-22A31F0E149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64A81E0-A3CB-401C-A68F-F9DC622182F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AB790C2-F603-4415-AE44-B5E65B8C07C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EA4C371-7389-47D0-A68F-5A62458F52D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6C484EF-5605-4D1E-BCFC-4874549983A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BA25109-BDE9-45B5-966F-A08A41B5C3D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B62796F8-43E9-4D33-8F23-4B363BEF29D6}"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A746-95E7-4327-9D45-2E3EE749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374A0-24B4-4C7E-AC5D-970B9090C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BCA40E3-0855-4514-89E1-1AD833BA171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69F04E89-C7CF-4021-A2C5-BC8C83652518}"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C0EE115E-5BF2-4EF6-BBD7-7F10080ADBD5}"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B7F0E3F6-4116-44A3-9E14-D3C9C86D389C}"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7852223-619E-45F6-885E-3E68D14FF21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CED474DF-0B29-4580-A8A5-FACB51A5768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58D11E5-A32F-4135-980D-F864C9CECB78}"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AD560B7-B7C7-4FB9-9E83-90855AEE5E8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1C404EF-F966-42A0-BE7E-B46D265A0D4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D87B934-90C1-4270-B113-A7D79831B1A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6425F-C8FF-4060-A4F1-E5C7A0D17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A66A3E4-4BCD-47E4-9744-16E60E111046}"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CBDAF64-4B95-475B-9D5A-AFE01C18796C}"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77F70016-D047-48C0-8B91-4777C8F3613F}"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170E4D5A-E576-46D2-BE13-2BDBF023D199}"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D04DDF7D-913C-43D8-92E7-0866D6F9503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2F44A62B-338D-4103-9B3A-38C56B57F7A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349CC765-B23E-49CA-A602-53595F453496}"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8A39E248-2E9E-4D4C-9847-64FFED3BC20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C4D3FEFC-8E6C-4627-BA9F-A80ECA63252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2BE4473-4CDE-4054-9CE8-CFC2FC0FC7B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707DB-E913-42B9-803D-403C98A25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A85C8F0-A25B-49F4-BAC3-D2BA6724714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3FA164D-FE8F-4AF5-9E1A-91C420E1F78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EEBB05F1-0252-444E-A2D7-CAB1AD7687DA}"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1F010C27-557B-47A8-8382-0335D37332B9}"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AAFA4E61-BD9B-4044-9F3A-F2E54F88112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03CAD2D4-BF64-403D-B446-2E09A82E52FC}"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99ED630-5B1D-4BC2-9AD9-A67192D59C32}"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C07A1A9-B749-4024-98BE-557C37347F68}"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85557BA-28CF-4C74-95A2-D1CDD397C102}"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D583EE7-30FC-4A4E-B21C-42EB2B8813CD}"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6D327-6F54-4C3C-9A6F-37BF372B0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EBB716DD-8FBD-4CF0-BA14-C926A0F2EF57}"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817A544-E606-4839-930D-2E911EBA9B58}"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ACE8B43-DAD0-41B6-A14D-D11FDEB1A895}"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70D41645-9E3A-48D3-9577-50857661695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7365CA52-0D29-4C50-9DD1-DB148D557A5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FB2A439B-B6E4-4DD6-A24B-39DA96E56471}"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5BAF5787-2ED0-46E8-802F-927AB585C4CC}"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C87C60DB-D9DC-4EFE-B32E-CCCF7EC412CD}"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113610A9-05A9-4684-A901-3C4BF846597B}"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DFF34789-E498-4E42-B318-EC70D4D5426C}"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73371-823F-4D16-B2AE-3BAFCF72F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66BF90E9-0E44-48DD-A6E6-42375F2412D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F9FE6CA2-B4C6-4280-8A94-E6FE0859AAA8}"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8EBAA0B5-7825-4627-B4D9-C8E57D8969A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285F1EC-C094-4BE6-8BC0-ECB8043416E1}"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7738F33B-1358-4B34-B2BA-2C97518147F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D6556B80-DDE5-42E7-B5AF-F0D788252184}"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7CEF4C1A-CFC4-481C-BD66-8865A6C5B85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C61D9B3C-5D05-429F-8B4D-FA86F50F02D1}"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3C5A568F-EF62-4442-98B8-3C53E71241DE}"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4BFF17C2-E698-404E-A63C-435CE28315B8}"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EC4D3A-3FA2-479B-842C-FB14CDAE0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2E5845C7-376F-4AAE-899B-369600E6C519}"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B0CCB92E-1D85-448C-BE72-5F34536872CF}"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3A266C4F-6A56-4CE9-85FA-8D33917D49D7}"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E063A139-6B78-4AAE-BC1F-331312A74CFC}"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33DB4196-E74E-477F-B794-266ED45F43F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4ECA75B-CF47-45B9-BA54-0318BF266D47}"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208A5B0-80D8-4A7A-903B-DEDD6A057D5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4F471C9-F8A1-4654-9665-B985F547CC8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D99457F-4737-4807-A336-7FFD4B45D293}"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47228E4B-9457-45D6-8908-98DC79213505}"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191AF-4280-4E60-914A-5C2C07AF6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DFAA436F-3D39-419B-8210-222111D75C32}"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D3E4D21B-3475-4399-9ACD-4BD4AE454F82}"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2547700C-4A49-44FD-9E95-75DACD294377}"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58F8A5D4-D3B6-48FB-8305-615CD03A56C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02CD8174-1BC4-4940-BC7C-04C5029A29C1}"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AE688AF9-A5AB-476E-8FC5-371532EB020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F926EA7C-FD66-4F6B-9557-9CBAE87D9775}"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E69F81E-2AF8-45A5-8D48-8124FA3789D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639C3B99-34A2-41C5-AD59-966B4207FF4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5156CB6F-EBDB-4BCC-821B-86E298EA367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C6E10-7376-4130-9432-37C2A95FEF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CF610D33-C9E8-4DD3-BD0F-8D4306CB8DDE}"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EA30C58D-CCDB-4C8E-A5A6-68048B3D917B}"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3CF18926-D539-4D85-8445-6D845294605A}"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DB2EC87B-1A53-49C0-850B-9CB7714CAA1D}"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C6DCEE37-EBB3-4AF1-ADA7-0DFA4280C216}"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F5F0D070-C04F-4E67-B2C8-B9A4EFBC882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DB16605D-88F7-476D-AC30-B118195BA45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6E5F44F-8D4C-476A-AFB7-BE5C49EC191C}"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B64F3B4B-63C9-477F-A139-9D46336F9251}"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D19AE0C-0605-4513-938B-A5B9C8E36682}"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BA23E-54C6-46A0-B026-1997256884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E94D1F1-665D-4A3A-A8E1-CEBC5ABCF63C}"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4356FFD-73CF-4A3D-8535-D24759D75533}"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A2B4053-A473-4101-B916-C374753A0F09}"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C114A948-2F25-409C-B36A-6C22C7A29C7E}"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746D0621-5F1D-4ABB-9CF8-C23670D81505}"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50F18401-EA7A-4C3D-A2AA-09EE65C644DF}"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9D5046FF-B0BA-4B31-965E-D8910CEDCB92}"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27C79131-595A-444D-ACF3-AEFB20D4D602}"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04A6975-8EBF-47DD-B409-F41D68242353}"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9912A5F2-7700-46A9-BD25-36E2253B3F1C}"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17DA1-3388-4203-AF3B-F6FCD3852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91C1B73A-C486-4582-8DDA-E54AB3E2929C}"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2044F3EF-C18C-4F97-A293-61287AE6F2B9}"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26C538B3-D306-462F-975F-8CC6C5154854}"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A3C9547E-6CD6-41FF-A283-BAFE8384769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24AFDB1A-A022-4A42-A409-81BDDF6A068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999781FE-21FA-4815-AC63-DBE4FE17B84F}"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50BE3F04-1B27-4BD7-B113-C9677864719B}"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26850D8F-47FB-4C69-85B2-BC7922EAD016}"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EF4A1010-E5A1-4148-BC6E-F7A239D7F279}"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5298ACD1-6B2D-4AC9-8806-257FC3CCAA8D}"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C052D-58CD-4D80-B0A2-148F8781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2A9B5-A527-4E6F-8389-3107DE5F7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44188E51-3D0F-477A-9FA3-94129902DA00}"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5C46697-1935-4FC3-BBDE-1A7CBE23CACA}"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33AF4547-CAE0-4715-877F-8546713472C3}"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4D967884-EF9C-4CE8-9965-9A20983FC946}"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D086EE8-A83F-4F5B-BE39-9658B0F74629}"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E29382C-BE8E-4954-B136-CD6CF83CF168}"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91483861-62F7-4B47-B243-D5AC8DFD394A}"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7E51D47D-F189-4450-AC76-6796078E392F}"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5174CF00-0909-4F29-A00C-385895342CCA}"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1C2113F1-D91D-433F-926D-6808D07B5B5E}"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A3005-5729-4CF3-966C-DDDD09480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F7DF0982-7245-4CE6-AF38-1B248ACB0D5B}"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76DDC091-439C-48D6-95A9-323B10614A00}"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50A35B4F-1C1A-4308-94A0-E8A37678AED4}"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4E57625A-1799-4114-9034-5F3A32F1E0C8}"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73DC1DC-28DA-47D5-A60A-EB6893AA613C}"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04B5CA0D-4A38-4EF7-BBED-E267FC7354A2}"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E6913FB-C063-4E0E-B3C0-88C56A2A96B4}"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13FBB6A5-BD25-4334-A3C7-C17361DD1922}"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4FFD83C-5C45-48EF-BCAB-B0346493084B}"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9F714BA0-A70A-4FB1-AD38-F5B96F1B242B}"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12A6D-5023-4CE0-A357-FDAB02A8E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147BAC35-0A0C-48CD-AC6A-FF1488DD22DC}"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77DB5E70-A08C-4258-BE76-98DC5F5AEA32}"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74BE9F90-E5FF-4B5A-9D46-3F373954D725}"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877C2BC1-2E06-400B-B96F-56A9746430BD}"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1F21EB4B-72BF-4130-BAD0-DCB9C9C9934B}"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5F58AC9C-5A92-40C8-AC38-50DF36BD9A08}"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01DF7596-3319-455F-B9E7-9A7C5D6423CC}"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68BB97E-96CB-4B68-A2FB-94D35791957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3DEE3E6F-2CE1-4211-A8ED-52AFB564A8B6}"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AD8C657-5452-4177-9294-CAEFB20B008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B9070-3240-4215-AFB0-D1C55B948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B457D291-9A37-401A-9F4D-0014F9FCE163}"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773ADB5E-6DB7-4585-B0F0-1C68D06D50D6}"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96C33EAA-38BF-4846-A712-F32E8F9F71DD}"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62820E26-F23C-4F32-83FD-E7F38788F4DE}"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F2DC52BB-A3CF-4668-B0A3-935AB5CD251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EA84BABC-D05C-4048-9669-AEA54BF202F4}"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28FF98DA-0D94-4B0C-9A2E-AFA8C9994BA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C989D96C-474D-4094-99A8-809990921F79}"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301D6D69-303B-48AF-985C-D22FFA621A04}"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36A4CAE-DF3F-489C-AB50-14C41E5C7F0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BAAEC-364C-420E-B65F-DBF9F8EE2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81B2690-87F3-44CB-8BBF-AFF1537A33D8}"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A1C16F5-5A1A-4835-866B-E66866162A5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40059F46-2543-4923-867F-E8B161D23D8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3B8BA8B9-16FF-408A-90B2-9249A52B3B73}"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D73C02B6-3EC4-483E-BFBA-2E0EDF49E7C1}"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1C835CA7-74B5-4323-9351-C82F6B9AF99A}"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9A0902C6-5E41-473F-9938-8D64DEBBD731}"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FB1BF8D0-690F-45E8-A8F3-614DB8122742}"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7E2BDC28-27D9-4537-8699-16B9FAA831ED}"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B3142B64-46C7-471E-95FC-3C405D8121B9}"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D0210-1091-4D05-8777-D52984948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621BF9F5-679B-477E-B731-3C0824583855}"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5C4232D6-1A9C-4D71-81A3-891E4EBA2CB9}"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F707E9B7-6475-4F7E-B59E-313262A9D6F6}"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8D5FAE2A-31DC-425F-86DF-259CEE2ED93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A3D32170-80B6-4D10-A8BD-84ED6E8FA7B6}"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71163289-8506-4DEB-B1C3-0C2A99454F62}"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38ED0F83-B8CE-46E4-A9B0-A7A8BDB84C89}"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3A763091-5927-4CCF-9861-8B18B2C305B3}"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B70B5457-6537-403A-A729-4F3E9A63E6FB}"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F0E6FE5F-2A3B-4502-A9CB-98D5D1B3EF7D}"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2D7E11-A7A8-4B3D-BB19-7DE3194EE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ACFB55F-98DD-4877-A0D7-C4E5D9B98244}"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0913668E-9758-46B5-89C9-B24F11E074E7}"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2D464CAB-7882-459A-8201-A318FDF48CF9}"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4DC883B-EBB9-4995-9159-A5A7730DF250}"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1A514704-8211-4B8F-AAC3-47F965FFCB2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E4660D8-9B60-409C-9364-794D55FEB564}"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C54824D-3278-448D-BA10-CE808B47908D}"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D9D1B9D0-5A76-408D-B6F0-D7400BDDA87E}"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6EE3DDDA-2475-4AF6-9CC8-A03F1CA5B37C}"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13B1CB43-7E78-4B54-92C2-392F23B869C4}"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A95D1-9021-49B7-A39C-B943FDB4B2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2ADFBEDC-41A0-4880-8AC5-798128091141}"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E01A17BC-902F-4FCC-BC22-750D5BD1A943}"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24BE9E55-8FCA-4D38-B70C-8E1F72804D73}"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A1D2364-512A-48C9-AF6D-76E3F4421365}"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57E71066-C682-4170-B416-72AB9258B16C}"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AB8B3B62-3727-497F-B326-B3E2538EEF3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C643C24C-E23E-42A8-A75D-BE69BD6CAE9C}"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32A05F8B-477C-47F0-A47E-1C05DFE43B8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B4BF77F-B4FE-4E33-B3DC-34093F5CD4A7}"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3EF07816-B572-46D1-B7D2-8C8CBA0683D2}"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A06962-735B-4AB3-8CB0-D603C5B72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280D11FF-A8D6-46B5-B6AB-273B05A4E46D}"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BB3DE-0047-4AE3-BE38-020CEC86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E1D70-D4AE-4C04-8ADE-AD06D434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D60D-8BA9-4CCB-970C-4B52FC02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735CC6-4989-4E63-856E-4285B29BE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32FB1-3C8D-4F65-9F66-8AC808557E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F8C55-925E-429F-95AC-7D9045F29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32C62-10BB-407A-AF61-31880471A5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985E1-D804-4538-AFE8-B5C954F28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99859-D756-44DE-B6A4-513A1534F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E72F9-41BF-40CC-9F2A-7C0680CEC5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D97A0-87D9-4D73-AA63-6E8BFB8B9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D5E5C-C8A8-41D7-A9FC-DA9BFB2A2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C4FD94-368D-4303-A79F-7E8D27779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84314-5F33-4756-80FB-83A99A3863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4FF3E2-794A-4D2C-ABE8-4CE30BD59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C2E2B-CE88-4A9C-8BD3-FB438D3028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7E364-C345-4F99-A991-2337492983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A8E6D-AE59-4959-8B77-924429321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3E502-3923-4CC5-AF84-5F128F02D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CCD47-FCF3-4727-B138-C7C0EB183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55A30-EFD8-4650-9D6E-8E62EB398C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A9F1-A2BD-4FD0-ADFB-1F8A32F5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56E9C-060A-4DF9-91F3-8C369693C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58E6F-16C9-4BE5-9FA2-FD2AEDA6C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B6E08D-E3C5-4624-91C3-0C6D64626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D29F4-4711-4A1E-B93F-F5DFE5DCD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2F409-D22F-4793-AD27-E0725B01B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2726C-CEB8-4BEB-B23F-D12B671FA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ADE5AE-2B52-494A-B5C9-9B5824CF00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2BFFE8B-CCDA-4762-8A3D-7A608A02338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26A3B86-FCC3-4B8C-B180-B649F88A1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FD2376F-1D84-4890-91E3-BEF246654B97}"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EF7F-2661-4187-BF26-2185607A9E25}"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3096-7324-457C-95AD-6C286DA78B1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1AA7-4DED-4752-B1CE-BDC93CFBD64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1407-2302-419B-9046-0B7373275D4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0B38-FE62-47C1-9C19-83837ECF3BF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14CA-3B20-4F50-B92F-568F960992A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616B-08FF-4661-A3B7-DB96E97AD8D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08F1-E37A-4A4C-9D4E-76D8F3D26BF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EA34-3FD7-482F-A3E6-8F193DA47DF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0CFD-BB6A-4DAC-A41D-E67BD24307D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81D5-0DBC-4804-816A-ADE6CC73CF01}"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6CA4-8076-47F1-A219-584A151BA220}"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1CFE-EF12-423B-96FA-7E981F2E478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BD15-EE06-48D3-B278-1ABE6CD28DB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D664-5582-49A8-940A-86659E3C781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0322-9A16-4051-9EE2-1477CB84E2C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8677-6612-4B1E-97AE-CB46A1C64FE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6B99-9BB0-4D0A-B9E4-70B2BED47E1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C16A-5E64-43C4-84E0-D26BCD2C2E6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0D4A-3428-4873-9B71-E70D712439F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3F62-0BE4-4C90-9974-2B2A871D6771}"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27D1-21DC-4B1C-8442-AD1967BB0F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C063-863A-46B2-A218-54A6A4EAC7CC}"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0D7D-7267-4968-A30C-4E6F86864F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E981-EF1D-44A2-8FF2-9E0EA2F2A5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876B-BBA3-401B-A8E0-75846B7723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09ED-31F6-4BFB-9DD0-7E01D55C2F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4ED5-6967-497E-B81E-BC64D5482E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24E7-AEA5-4171-B7A7-C15FEBE55A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AC13-F106-4042-B803-FD041B8BA6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DAA3-1C6A-44BA-8B13-86A6384E35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A64D-E293-402B-8582-B86E42ED4BBB}"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4C93-A50B-46EE-9974-AB03279655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35E9-3A9F-4106-A2D4-3442E77DA6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F4C6-A3B8-449B-992B-448BE0AB364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0AE3-C427-496D-9CB5-01B36A95E1C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xweb3.media-x.com/home/ncval/demo/" TargetMode="External"/><Relationship Id="rId2" Type="http://schemas.openxmlformats.org/officeDocument/2006/relationships/image" Target="../media/image20.jpeg"/><Relationship Id="rId3" Type="http://schemas.openxmlformats.org/officeDocument/2006/relationships/slideLayout" Target="../slideLayouts/slideLayout3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classroom-video-visits/public-lesson-equations-inequalities-properties/250-equations-inequalities-a-properties-problem-2-part-a?" TargetMode="External"/><Relationship Id="rId3" Type="http://schemas.openxmlformats.org/officeDocument/2006/relationships/slideLayout" Target="../slideLayouts/slideLayout3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4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6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ember 12,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C857-88AF-44B5-801F-C5FA8D83F5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783D-9F7F-4BEA-B077-4CD2532DE59B}"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0"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51"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2"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7"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8"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9"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adequate growth </a:t>
            </a:r>
            <a:r>
              <a:rPr b="0" lang="en-US" sz="1800" spc="-1" strike="noStrike">
                <a:solidFill>
                  <a:srgbClr val="000000"/>
                </a:solidFill>
                <a:latin typeface="Times New Roman"/>
                <a:ea typeface="Times New Roman"/>
              </a:rPr>
              <a:t>during the period of performance, but did not demonstrate competence on standard(s) of performance  </a:t>
            </a:r>
            <a:endParaRPr b="0" lang="en-US" sz="1800" spc="-1" strike="noStrike">
              <a:solidFill>
                <a:srgbClr val="000000"/>
              </a:solidFill>
              <a:latin typeface="Arial"/>
            </a:endParaRPr>
          </a:p>
        </p:txBody>
      </p:sp>
      <p:sp>
        <p:nvSpPr>
          <p:cNvPr id="1661"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basic competence </a:t>
            </a:r>
            <a:r>
              <a:rPr b="0" lang="en-US" sz="1800" spc="-1" strike="noStrike">
                <a:solidFill>
                  <a:srgbClr val="000000"/>
                </a:solidFill>
                <a:latin typeface="Times New Roman"/>
                <a:ea typeface="Times New Roman"/>
              </a:rPr>
              <a:t>on standards of performance</a:t>
            </a:r>
            <a:endParaRPr b="0" lang="en-US" sz="1800" spc="-1" strike="noStrike">
              <a:solidFill>
                <a:srgbClr val="000000"/>
              </a:solidFill>
              <a:latin typeface="Arial"/>
            </a:endParaRPr>
          </a:p>
        </p:txBody>
      </p:sp>
      <p:sp>
        <p:nvSpPr>
          <p:cNvPr id="1662"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ceeded basic competence </a:t>
            </a:r>
            <a:r>
              <a:rPr b="0" lang="en-US" sz="1800" spc="-1" strike="noStrike">
                <a:solidFill>
                  <a:srgbClr val="000000"/>
                </a:solidFill>
                <a:latin typeface="Times New Roman"/>
                <a:ea typeface="Times New Roman"/>
              </a:rPr>
              <a:t>on standards for performance most of the time</a:t>
            </a:r>
            <a:endParaRPr b="0" lang="en-US" sz="1800" spc="-1" strike="noStrike">
              <a:solidFill>
                <a:srgbClr val="000000"/>
              </a:solidFill>
              <a:latin typeface="Arial"/>
            </a:endParaRPr>
          </a:p>
        </p:txBody>
      </p:sp>
      <p:sp>
        <p:nvSpPr>
          <p:cNvPr id="1663"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istently and significantly exceeded </a:t>
            </a:r>
            <a:r>
              <a:rPr b="0" lang="en-US" sz="1800" spc="-1" strike="noStrike">
                <a:solidFill>
                  <a:srgbClr val="000000"/>
                </a:solidFill>
                <a:latin typeface="Times New Roman"/>
                <a:ea typeface="Times New Roman"/>
              </a:rPr>
              <a:t>basic competence on standards of performance</a:t>
            </a:r>
            <a:endParaRPr b="0" lang="en-US" sz="1800" spc="-1" strike="noStrike">
              <a:solidFill>
                <a:srgbClr val="000000"/>
              </a:solidFill>
              <a:latin typeface="Arial"/>
            </a:endParaRPr>
          </a:p>
        </p:txBody>
      </p:sp>
      <p:sp>
        <p:nvSpPr>
          <p:cNvPr id="1664" name="TextBox 18"/>
          <p:cNvSpPr/>
          <p:nvPr/>
        </p:nvSpPr>
        <p:spPr>
          <a:xfrm>
            <a:off x="7010280" y="1828800"/>
            <a:ext cx="2057400" cy="338580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d not demonstrate</a:t>
            </a:r>
            <a:r>
              <a:rPr b="0" lang="en-US" sz="1800" spc="-1" strike="noStrike">
                <a:solidFill>
                  <a:srgbClr val="000000"/>
                </a:solidFill>
                <a:latin typeface="Times New Roman"/>
                <a:ea typeface="Times New Roman"/>
              </a:rPr>
              <a:t>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65"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66"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67"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68"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69"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67"/>
                                        </p:tgtEl>
                                        <p:attrNameLst>
                                          <p:attrName>style.visibility</p:attrName>
                                        </p:attrNameLst>
                                      </p:cBhvr>
                                      <p:to>
                                        <p:strVal val="visible"/>
                                      </p:to>
                                    </p:set>
                                    <p:anim calcmode="lin" valueType="num">
                                      <p:cBhvr additive="base">
                                        <p:cTn id="63" dur="500" fill="hold"/>
                                        <p:tgtEl>
                                          <p:spTgt spid="1667"/>
                                        </p:tgtEl>
                                        <p:attrNameLst>
                                          <p:attrName>ppt_x</p:attrName>
                                        </p:attrNameLst>
                                      </p:cBhvr>
                                      <p:tavLst>
                                        <p:tav tm="0">
                                          <p:val>
                                            <p:strVal val="#ppt_x"/>
                                          </p:val>
                                        </p:tav>
                                        <p:tav tm="100000">
                                          <p:val>
                                            <p:strVal val="#ppt_x"/>
                                          </p:val>
                                        </p:tav>
                                      </p:tavLst>
                                    </p:anim>
                                    <p:anim calcmode="lin" valueType="num">
                                      <p:cBhvr additive="base">
                                        <p:cTn id="64" dur="500" fill="hold"/>
                                        <p:tgtEl>
                                          <p:spTgt spid="166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68"/>
                                        </p:tgtEl>
                                        <p:attrNameLst>
                                          <p:attrName>style.visibility</p:attrName>
                                        </p:attrNameLst>
                                      </p:cBhvr>
                                      <p:to>
                                        <p:strVal val="visible"/>
                                      </p:to>
                                    </p:set>
                                    <p:anim calcmode="lin" valueType="num">
                                      <p:cBhvr additive="base">
                                        <p:cTn id="69" dur="500" fill="hold"/>
                                        <p:tgtEl>
                                          <p:spTgt spid="1668"/>
                                        </p:tgtEl>
                                        <p:attrNameLst>
                                          <p:attrName>ppt_x</p:attrName>
                                        </p:attrNameLst>
                                      </p:cBhvr>
                                      <p:tavLst>
                                        <p:tav tm="0">
                                          <p:val>
                                            <p:strVal val="#ppt_x"/>
                                          </p:val>
                                        </p:tav>
                                        <p:tav tm="100000">
                                          <p:val>
                                            <p:strVal val="#ppt_x"/>
                                          </p:val>
                                        </p:tav>
                                      </p:tavLst>
                                    </p:anim>
                                    <p:anim calcmode="lin" valueType="num">
                                      <p:cBhvr additive="base">
                                        <p:cTn id="70" dur="500" fill="hold"/>
                                        <p:tgtEl>
                                          <p:spTgt spid="166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6"/>
                                        </p:tgtEl>
                                        <p:attrNameLst>
                                          <p:attrName>style.visibility</p:attrName>
                                        </p:attrNameLst>
                                      </p:cBhvr>
                                      <p:to>
                                        <p:strVal val="visible"/>
                                      </p:to>
                                    </p:set>
                                    <p:anim calcmode="lin" valueType="num">
                                      <p:cBhvr additive="base">
                                        <p:cTn id="75" dur="500" fill="hold"/>
                                        <p:tgtEl>
                                          <p:spTgt spid="1666"/>
                                        </p:tgtEl>
                                        <p:attrNameLst>
                                          <p:attrName>ppt_x</p:attrName>
                                        </p:attrNameLst>
                                      </p:cBhvr>
                                      <p:tavLst>
                                        <p:tav tm="0">
                                          <p:val>
                                            <p:strVal val="#ppt_x"/>
                                          </p:val>
                                        </p:tav>
                                        <p:tav tm="100000">
                                          <p:val>
                                            <p:strVal val="#ppt_x"/>
                                          </p:val>
                                        </p:tav>
                                      </p:tavLst>
                                    </p:anim>
                                    <p:anim calcmode="lin" valueType="num">
                                      <p:cBhvr additive="base">
                                        <p:cTn id="76" dur="500" fill="hold"/>
                                        <p:tgtEl>
                                          <p:spTgt spid="166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5"/>
                                        </p:tgtEl>
                                        <p:attrNameLst>
                                          <p:attrName>style.visibility</p:attrName>
                                        </p:attrNameLst>
                                      </p:cBhvr>
                                      <p:to>
                                        <p:strVal val="visible"/>
                                      </p:to>
                                    </p:set>
                                    <p:anim calcmode="lin" valueType="num">
                                      <p:cBhvr additive="base">
                                        <p:cTn id="81" dur="500" fill="hold"/>
                                        <p:tgtEl>
                                          <p:spTgt spid="1665"/>
                                        </p:tgtEl>
                                        <p:attrNameLst>
                                          <p:attrName>ppt_x</p:attrName>
                                        </p:attrNameLst>
                                      </p:cBhvr>
                                      <p:tavLst>
                                        <p:tav tm="0">
                                          <p:val>
                                            <p:strVal val="#ppt_x"/>
                                          </p:val>
                                        </p:tav>
                                        <p:tav tm="100000">
                                          <p:val>
                                            <p:strVal val="#ppt_x"/>
                                          </p:val>
                                        </p:tav>
                                      </p:tavLst>
                                    </p:anim>
                                    <p:anim calcmode="lin" valueType="num">
                                      <p:cBhvr additive="base">
                                        <p:cTn id="82" dur="500" fill="hold"/>
                                        <p:tgtEl>
                                          <p:spTgt spid="1665"/>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9"/>
                                        </p:tgtEl>
                                        <p:attrNameLst>
                                          <p:attrName>style.visibility</p:attrName>
                                        </p:attrNameLst>
                                      </p:cBhvr>
                                      <p:to>
                                        <p:strVal val="visible"/>
                                      </p:to>
                                    </p:set>
                                    <p:anim calcmode="lin" valueType="num">
                                      <p:cBhvr additive="base">
                                        <p:cTn id="87" dur="500" fill="hold"/>
                                        <p:tgtEl>
                                          <p:spTgt spid="1669"/>
                                        </p:tgtEl>
                                        <p:attrNameLst>
                                          <p:attrName>ppt_x</p:attrName>
                                        </p:attrNameLst>
                                      </p:cBhvr>
                                      <p:tavLst>
                                        <p:tav tm="0">
                                          <p:val>
                                            <p:strVal val="#ppt_x"/>
                                          </p:val>
                                        </p:tav>
                                        <p:tav tm="100000">
                                          <p:val>
                                            <p:strVal val="#ppt_x"/>
                                          </p:val>
                                        </p:tav>
                                      </p:tavLst>
                                    </p:anim>
                                    <p:anim calcmode="lin" valueType="num">
                                      <p:cBhvr additive="base">
                                        <p:cTn id="88" dur="500" fill="hold"/>
                                        <p:tgtEl>
                                          <p:spTgt spid="1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F5B6-2DCF-4DD1-9FC3-23C917E9E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72" name="Picture 2" descr="C:\Documents and Settings\PCS\Local Settings\Temporary Internet Files\Content.IE5\BE0K38QK\MP900439502[1].jpg"/>
          <p:cNvPicPr/>
          <p:nvPr/>
        </p:nvPicPr>
        <p:blipFill>
          <a:blip r:embed="rId1"/>
          <a:stretch/>
        </p:blipFill>
        <p:spPr>
          <a:xfrm>
            <a:off x="5862600" y="304920"/>
            <a:ext cx="29764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674" name=""/>
          <p:cNvSpPr txBox="1"/>
          <p:nvPr/>
        </p:nvSpPr>
        <p:spPr>
          <a:xfrm>
            <a:off x="457200" y="1371600"/>
            <a:ext cx="8229600" cy="4525920"/>
          </a:xfrm>
          <a:prstGeom prst="rect">
            <a:avLst/>
          </a:prstGeom>
          <a:noFill/>
          <a:ln w="0">
            <a:noFill/>
          </a:ln>
        </p:spPr>
        <p:txBody>
          <a:bodyPr anchor="t">
            <a:normAutofit fontScale="97000"/>
          </a:bodyPr>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each standard there are descriptors which help teachers understand what is observable</a:t>
            </a:r>
            <a:endParaRPr b="0" lang="en-US" sz="27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standard and rating scale, list examples of evidence that would the progression from Proficient to Distinguished</a:t>
            </a: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the levels are cumulative across the rows of the rubric</a:t>
            </a: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prepared to share your example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6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C543-B4C6-4B4E-A101-3DA51C17DF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77"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DB8B-B9D6-47FD-A6F2-A1E209762BC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0"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8F23-2094-4B5F-A90B-90DA3CDF68A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3"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841F-41B6-4614-9C80-52D36B49BDC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6"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4A59-FE22-4222-8A31-58C7773C343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689"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90"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B094-C60D-49E0-AEFF-24D6575D6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693"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313A-0025-476F-8229-2C1EB03A269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696" name=""/>
          <p:cNvSpPr txBox="1"/>
          <p:nvPr/>
        </p:nvSpPr>
        <p:spPr>
          <a:xfrm>
            <a:off x="304920" y="837720"/>
            <a:ext cx="8534160" cy="4830840"/>
          </a:xfrm>
          <a:prstGeom prst="rect">
            <a:avLst/>
          </a:prstGeom>
          <a:noFill/>
          <a:ln w="0">
            <a:noFill/>
          </a:ln>
        </p:spPr>
        <p:txBody>
          <a:bodyPr anchor="t">
            <a:normAutofit fontScale="87000"/>
          </a:bodyPr>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FFA2-BB3E-418E-A5B7-D0241848ABF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04560" y="1219320"/>
            <a:ext cx="8381880" cy="3200400"/>
          </a:xfrm>
          <a:prstGeom prst="rect">
            <a:avLst/>
          </a:prstGeom>
          <a:noFill/>
          <a:ln w="0">
            <a:noFill/>
          </a:ln>
        </p:spPr>
        <p:txBody>
          <a:bodyPr anchor="t">
            <a:normAutofit fontScale="69000"/>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this </a:t>
            </a:r>
            <a:r>
              <a:rPr b="0" i="1" lang="en-US" sz="2400" spc="-1" strike="noStrike">
                <a:solidFill>
                  <a:srgbClr val="000000"/>
                </a:solidFill>
                <a:latin typeface="Calibri"/>
              </a:rPr>
              <a:t>wikispace</a:t>
            </a:r>
            <a:r>
              <a:rPr b="0" lang="en-US" sz="2400" spc="-1" strike="noStrike">
                <a:solidFill>
                  <a:srgbClr val="000000"/>
                </a:solidFill>
                <a:latin typeface="Calibri"/>
              </a:rPr>
              <a:t> to your favorites </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and save the presentation found under “Region 1 Events”</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ticket out the door at the end of the training</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12640" indent="-196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alibri"/>
              </a:rPr>
              <a:t>Go to the link below and minimize it for later use </a:t>
            </a:r>
            <a:endParaRPr b="0" lang="en-US" sz="2800" spc="-1" strike="noStrike">
              <a:solidFill>
                <a:srgbClr val="000000"/>
              </a:solidFill>
              <a:latin typeface="Calibri"/>
            </a:endParaRPr>
          </a:p>
          <a:p>
            <a:pPr lvl="1" marL="512640" indent="-196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alibri"/>
              </a:rPr>
              <a:t>in the presentation </a:t>
            </a:r>
            <a:endParaRPr b="0" lang="en-US" sz="28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name: Principaldemo (any number 1-40)</a:t>
            </a:r>
            <a:endParaRPr b="0" lang="en-US" sz="2400" spc="-1" strike="noStrike">
              <a:solidFill>
                <a:srgbClr val="000000"/>
              </a:solidFill>
              <a:latin typeface="Calibri"/>
            </a:endParaRPr>
          </a:p>
          <a:p>
            <a:pPr lvl="1" marL="512640" indent="-196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 123456</a:t>
            </a:r>
            <a:endParaRPr b="0" lang="en-US" sz="24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DAFE-E17D-49A4-A34F-7FC58135BDD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8" name="Rectangle 1"/>
          <p:cNvSpPr/>
          <p:nvPr/>
        </p:nvSpPr>
        <p:spPr>
          <a:xfrm>
            <a:off x="380880" y="990720"/>
            <a:ext cx="838224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lements of the “Quick Visit”</a:t>
            </a:r>
            <a:br>
              <a:rPr sz="4400"/>
            </a:br>
            <a:endParaRPr b="0" lang="en-US" sz="4400" spc="-1" strike="noStrike">
              <a:solidFill>
                <a:srgbClr val="000000"/>
              </a:solidFill>
              <a:latin typeface="Calibri"/>
            </a:endParaRPr>
          </a:p>
        </p:txBody>
      </p:sp>
      <p:sp>
        <p:nvSpPr>
          <p:cNvPr id="17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A73A-DC6B-434B-ADFC-567A5E2943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a:t>
            </a:r>
            <a:endParaRPr b="0" lang="en-US" sz="4400" spc="-1" strike="noStrike">
              <a:solidFill>
                <a:srgbClr val="000000"/>
              </a:solidFill>
              <a:latin typeface="Calibri"/>
            </a:endParaRPr>
          </a:p>
        </p:txBody>
      </p:sp>
      <p:sp>
        <p:nvSpPr>
          <p:cNvPr id="17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95C2-13EA-4AFF-A782-B7C502C368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03" name="Picture 5" descr=""/>
          <p:cNvPicPr/>
          <p:nvPr/>
        </p:nvPicPr>
        <p:blipFill>
          <a:blip r:embed="rId1"/>
          <a:stretch/>
        </p:blipFill>
        <p:spPr>
          <a:xfrm>
            <a:off x="2819520" y="3581280"/>
            <a:ext cx="3738600" cy="2487600"/>
          </a:xfrm>
          <a:prstGeom prst="rect">
            <a:avLst/>
          </a:prstGeom>
          <a:ln w="0">
            <a:noFill/>
          </a:ln>
        </p:spPr>
      </p:pic>
      <p:graphicFrame>
        <p:nvGraphicFramePr>
          <p:cNvPr id="1704" name="ShockwaveFlash2"/>
          <p:cNvGraphicFramePr/>
          <p:nvPr/>
        </p:nvGraphicFramePr>
        <p:xfrm>
          <a:off x="7086600" y="5943600"/>
          <a:ext cx="1752480" cy="685800"/>
        </p:xfrm>
        <a:graphic>
          <a:graphicData uri="http://schemas.openxmlformats.org/presentationml/2006/ole">
            <p:oleObj r:id="rId2" spid="">
              <p:embed/>
              <p:pic>
                <p:nvPicPr>
                  <p:cNvPr id="1705" name="ShockwaveFlash2" descr=""/>
                  <p:cNvPicPr/>
                  <p:nvPr/>
                </p:nvPicPr>
                <p:blipFill>
                  <a:blip r:embed="rId3"/>
                  <a:stretch/>
                </p:blipFill>
                <p:spPr>
                  <a:xfrm>
                    <a:off x="7086600" y="5943600"/>
                    <a:ext cx="1752480" cy="685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nguage Matters</a:t>
            </a:r>
            <a:endParaRPr b="0" lang="en-US" sz="4400" spc="-1" strike="noStrike">
              <a:solidFill>
                <a:srgbClr val="000000"/>
              </a:solidFill>
              <a:latin typeface="Calibri"/>
            </a:endParaRPr>
          </a:p>
        </p:txBody>
      </p:sp>
      <p:sp>
        <p:nvSpPr>
          <p:cNvPr id="1707" name="PlaceHolder 2"/>
          <p:cNvSpPr>
            <a:spLocks noGrp="1"/>
          </p:cNvSpPr>
          <p:nvPr>
            <p:ph/>
          </p:nvPr>
        </p:nvSpPr>
        <p:spPr>
          <a:xfrm>
            <a:off x="456840" y="1534680"/>
            <a:ext cx="4040280" cy="639720"/>
          </a:xfrm>
          <a:prstGeom prst="rect">
            <a:avLst/>
          </a:prstGeom>
          <a:noFill/>
          <a:ln w="9360">
            <a:solidFill>
              <a:srgbClr val="ff0000"/>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IDENCE</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708" name=""/>
          <p:cNvSpPr txBox="1"/>
          <p:nvPr/>
        </p:nvSpPr>
        <p:spPr>
          <a:xfrm>
            <a:off x="456840" y="2174760"/>
            <a:ext cx="4040280" cy="395136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ble and specif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fluenced by the observer’s persp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mbiguous</a:t>
            </a:r>
            <a:endParaRPr b="0" lang="en-US" sz="2800" spc="-1" strike="noStrike">
              <a:solidFill>
                <a:srgbClr val="000000"/>
              </a:solidFill>
              <a:latin typeface="Calibri"/>
            </a:endParaRPr>
          </a:p>
        </p:txBody>
      </p:sp>
      <p:sp>
        <p:nvSpPr>
          <p:cNvPr id="1709" name="PlaceHolder 3"/>
          <p:cNvSpPr>
            <a:spLocks noGrp="1"/>
          </p:cNvSpPr>
          <p:nvPr>
            <p:ph/>
          </p:nvPr>
        </p:nvSpPr>
        <p:spPr>
          <a:xfrm>
            <a:off x="4644720" y="1534680"/>
            <a:ext cx="4041720" cy="639720"/>
          </a:xfrm>
          <a:prstGeom prst="rect">
            <a:avLst/>
          </a:prstGeom>
          <a:noFill/>
          <a:ln w="9360">
            <a:solidFill>
              <a:srgbClr val="ff0000"/>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INION</a:t>
            </a:r>
            <a:endParaRPr b="0" lang="en-US" sz="3200" spc="-1" strike="noStrike">
              <a:solidFill>
                <a:srgbClr val="000000"/>
              </a:solidFill>
              <a:latin typeface="Calibri"/>
            </a:endParaRPr>
          </a:p>
        </p:txBody>
      </p:sp>
      <p:sp>
        <p:nvSpPr>
          <p:cNvPr id="1710" name=""/>
          <p:cNvSpPr txBox="1"/>
          <p:nvPr/>
        </p:nvSpPr>
        <p:spPr>
          <a:xfrm>
            <a:off x="4644720" y="2174760"/>
            <a:ext cx="4041720" cy="395136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ws conclus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d by the observer’s persp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subject to debate</a:t>
            </a:r>
            <a:endParaRPr b="0" lang="en-US" sz="2800" spc="-1" strike="noStrike">
              <a:solidFill>
                <a:srgbClr val="000000"/>
              </a:solidFill>
              <a:latin typeface="Calibri"/>
            </a:endParaRPr>
          </a:p>
        </p:txBody>
      </p:sp>
      <p:sp>
        <p:nvSpPr>
          <p:cNvPr id="17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3F8F-607B-4D0E-AADC-2374854AB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nguage Analysis</a:t>
            </a:r>
            <a:br>
              <a:rPr sz="4400"/>
            </a:br>
            <a:r>
              <a:rPr b="1" i="1" lang="en-US" sz="3600" spc="-1" strike="noStrike">
                <a:solidFill>
                  <a:srgbClr val="000000"/>
                </a:solidFill>
                <a:latin typeface="Calibri"/>
              </a:rPr>
              <a:t>Making evidence based statements</a:t>
            </a:r>
            <a:endParaRPr b="0" lang="en-US" sz="3600" spc="-1" strike="noStrike">
              <a:solidFill>
                <a:srgbClr val="000000"/>
              </a:solidFill>
              <a:latin typeface="Calibri"/>
            </a:endParaRPr>
          </a:p>
        </p:txBody>
      </p:sp>
      <p:sp>
        <p:nvSpPr>
          <p:cNvPr id="171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ith an elbow partn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view the statements provide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ircle the words or phrases that imply opinion and/or are left open to interpretat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write statements and make them evidence based</a:t>
            </a:r>
            <a:endParaRPr b="0" lang="en-US" sz="3600" spc="-1" strike="noStrike">
              <a:solidFill>
                <a:srgbClr val="000000"/>
              </a:solidFill>
              <a:latin typeface="Calibri"/>
            </a:endParaRPr>
          </a:p>
        </p:txBody>
      </p:sp>
      <p:sp>
        <p:nvSpPr>
          <p:cNvPr id="17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614E-BB1E-499A-9FDB-D2B0AF8532E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1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8A9A-AEE3-4EC0-96E2-252BD6B0444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7e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eea"/>
                </a:solidFill>
                <a:latin typeface="Calibri"/>
              </a:rPr>
              <a:t>This guide helps the observer to </a:t>
            </a:r>
            <a:r>
              <a:rPr b="1" lang="en-US" sz="2800" spc="-1" strike="noStrike">
                <a:solidFill>
                  <a:srgbClr val="007eea"/>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7eea"/>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2622-CEFA-4FC6-AC27-8BC2F8853EC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1"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7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481E-1B6B-49C7-8433-DC21E2A57D2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5659-0659-432C-AFC3-57DF5B4DBD4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7621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ractice Observing and Recording</a:t>
            </a:r>
            <a:endParaRPr b="0" lang="en-US" sz="4400" spc="-1" strike="noStrike">
              <a:solidFill>
                <a:srgbClr val="000000"/>
              </a:solidFill>
              <a:latin typeface="Calibri"/>
            </a:endParaRPr>
          </a:p>
        </p:txBody>
      </p:sp>
      <p:sp>
        <p:nvSpPr>
          <p:cNvPr id="1726" name="PlaceHolder 2"/>
          <p:cNvSpPr>
            <a:spLocks noGrp="1"/>
          </p:cNvSpPr>
          <p:nvPr>
            <p:ph type="subTitle"/>
          </p:nvPr>
        </p:nvSpPr>
        <p:spPr>
          <a:xfrm>
            <a:off x="456840" y="3123720"/>
            <a:ext cx="84582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1"/>
              </a:rPr>
              <a:t>https://mxweb3.media-x.com/home/ncval/demo/</a:t>
            </a:r>
            <a:endParaRPr b="0" lang="en-US" sz="29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name: </a:t>
            </a:r>
            <a:r>
              <a:rPr b="0" lang="en-US" sz="2400" spc="-1" strike="noStrike">
                <a:solidFill>
                  <a:srgbClr val="ff0000"/>
                </a:solidFill>
                <a:latin typeface="Calibri"/>
              </a:rPr>
              <a:t>Principaldemo (any number 1-40)</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 </a:t>
            </a:r>
            <a:r>
              <a:rPr b="0" lang="en-US" sz="2400" spc="-1" strike="noStrike">
                <a:solidFill>
                  <a:srgbClr val="ff0000"/>
                </a:solidFill>
                <a:latin typeface="Calibri"/>
              </a:rPr>
              <a:t>123456</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6DC9-3FAA-4517-8DBB-D46840A4A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28" name="Picture 2" descr=""/>
          <p:cNvPicPr/>
          <p:nvPr/>
        </p:nvPicPr>
        <p:blipFill>
          <a:blip r:embed="rId2"/>
          <a:stretch/>
        </p:blipFill>
        <p:spPr>
          <a:xfrm>
            <a:off x="4724280" y="4191120"/>
            <a:ext cx="2930760" cy="234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ecord What You See</a:t>
            </a:r>
            <a:endParaRPr b="0" lang="en-US" sz="4400" spc="-1" strike="noStrike">
              <a:solidFill>
                <a:srgbClr val="000000"/>
              </a:solidFill>
              <a:latin typeface="Calibri"/>
            </a:endParaRPr>
          </a:p>
        </p:txBody>
      </p:sp>
      <p:sp>
        <p:nvSpPr>
          <p:cNvPr id="1730" name=""/>
          <p:cNvSpPr txBox="1"/>
          <p:nvPr/>
        </p:nvSpPr>
        <p:spPr>
          <a:xfrm>
            <a:off x="457200" y="1295280"/>
            <a:ext cx="8229600" cy="452592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a “New Observation”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rd what you see in the “Comments” section of each of the standards you were able to observe.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 with your initials and the date (example:  dhm10/30/2011).</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E3D8-6EAD-4EAB-904F-874F31860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 Sugg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a Lesson and Record Evidence</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Evaluation Tool (McRe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6095880" y="2666880"/>
            <a:ext cx="268308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BC5C-D075-40DB-8FFD-847CC4A274E2}"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33" name=""/>
          <p:cNvSpPr txBox="1"/>
          <p:nvPr/>
        </p:nvSpPr>
        <p:spPr>
          <a:xfrm>
            <a:off x="457200" y="1523880"/>
            <a:ext cx="8229600" cy="452592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ignment</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ategies</a:t>
            </a:r>
            <a:endParaRPr b="0" lang="en-US" sz="4000" spc="-1" strike="noStrike">
              <a:solidFill>
                <a:srgbClr val="000000"/>
              </a:solidFill>
              <a:latin typeface="Calibri"/>
            </a:endParaRPr>
          </a:p>
          <a:p>
            <a:pPr marL="332640" indent="-33264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act</a:t>
            </a:r>
            <a:endParaRPr b="0" lang="en-US" sz="4000" spc="-1" strike="noStrike">
              <a:solidFill>
                <a:srgbClr val="000000"/>
              </a:solidFill>
              <a:latin typeface="Calibri"/>
            </a:endParaRPr>
          </a:p>
          <a:p>
            <a:pPr marL="332640" indent="-3326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r>
              <a:rPr b="0" lang="en-US" sz="1800" spc="-1" strike="noStrike" u="sng">
                <a:solidFill>
                  <a:srgbClr val="6daa2d"/>
                </a:solidFill>
                <a:uFillTx/>
                <a:latin typeface="Calibri"/>
                <a:hlinkClick r:id="rId1"/>
              </a:rPr>
              <a:t>http://www.insidemathematics.org/index.php/tools-for-teachers </a:t>
            </a:r>
            <a:endParaRPr b="0" lang="en-US" sz="1800" spc="-1" strike="noStrike">
              <a:solidFill>
                <a:srgbClr val="000000"/>
              </a:solidFill>
              <a:latin typeface="Calibri"/>
            </a:endParaRPr>
          </a:p>
          <a:p>
            <a:pPr marL="332640" indent="-3326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daa2d"/>
                </a:solidFill>
                <a:uFillTx/>
                <a:latin typeface="Calibri"/>
                <a:hlinkClick r:id="rId2"/>
              </a:rPr>
              <a:t>Video Link</a:t>
            </a:r>
            <a:endParaRPr b="0" lang="en-US" sz="2400" spc="-1" strike="noStrike">
              <a:solidFill>
                <a:srgbClr val="000000"/>
              </a:solidFill>
              <a:latin typeface="Calibri"/>
            </a:endParaRPr>
          </a:p>
          <a:p>
            <a:pPr marL="332640" indent="-3326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5817-FF53-4E51-AFA0-D9F041C2782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hecking Evidence</a:t>
            </a:r>
            <a:endParaRPr b="0" lang="en-US" sz="4400" spc="-1" strike="noStrike">
              <a:solidFill>
                <a:srgbClr val="000000"/>
              </a:solidFill>
              <a:latin typeface="Calibri"/>
            </a:endParaRPr>
          </a:p>
        </p:txBody>
      </p:sp>
      <p:sp>
        <p:nvSpPr>
          <p:cNvPr id="1736" name=""/>
          <p:cNvSpPr txBox="1"/>
          <p:nvPr/>
        </p:nvSpPr>
        <p:spPr>
          <a:xfrm>
            <a:off x="228600" y="1143000"/>
            <a:ext cx="8610480" cy="4525920"/>
          </a:xfrm>
          <a:prstGeom prst="rect">
            <a:avLst/>
          </a:prstGeom>
          <a:noFill/>
          <a:ln w="0">
            <a:noFill/>
          </a:ln>
        </p:spPr>
        <p:txBody>
          <a:bodyPr anchor="t">
            <a:normAutofit fontScale="89000"/>
          </a:bodyPr>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scuss what you recorded with your table</a:t>
            </a:r>
            <a:endParaRPr b="0" lang="en-US" sz="32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a:t>
            </a:r>
            <a:endParaRPr b="0" lang="en-US" sz="3200" spc="-1" strike="noStrike">
              <a:solidFill>
                <a:srgbClr val="000000"/>
              </a:solidFill>
              <a:latin typeface="Calibri"/>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e the following  “checking evidence </a:t>
            </a:r>
            <a:endParaRPr b="0" lang="en-US" sz="32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f-check questions” </a:t>
            </a:r>
            <a:endParaRPr b="0" lang="en-US" sz="32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recorded only facts?</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Is my evidence relevant to the criteria being examined?</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Whenever possible, have I quantified words such as few, some, most?</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used quotation marks when quoting a teacher or student?</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Does my selection or documentation of evidence indicate any personal or professional biases?</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included my opinion (in the guise of fact)?</a:t>
            </a: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506E-B181-48DD-9715-3CBFF30F4482}"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8" name="Picture 2" descr=""/>
          <p:cNvPicPr/>
          <p:nvPr/>
        </p:nvPicPr>
        <p:blipFill>
          <a:blip r:embed="rId1"/>
          <a:stretch/>
        </p:blipFill>
        <p:spPr>
          <a:xfrm>
            <a:off x="3352680" y="3424320"/>
            <a:ext cx="2438640" cy="9360"/>
          </a:xfrm>
          <a:prstGeom prst="rect">
            <a:avLst/>
          </a:prstGeom>
          <a:ln w="0">
            <a:noFill/>
          </a:ln>
        </p:spPr>
      </p:pic>
      <p:pic>
        <p:nvPicPr>
          <p:cNvPr id="1739" name="Picture 3" descr=""/>
          <p:cNvPicPr/>
          <p:nvPr/>
        </p:nvPicPr>
        <p:blipFill>
          <a:blip r:embed="rId2"/>
          <a:stretch/>
        </p:blipFill>
        <p:spPr>
          <a:xfrm>
            <a:off x="3352680" y="3424320"/>
            <a:ext cx="2438640" cy="9360"/>
          </a:xfrm>
          <a:prstGeom prst="rect">
            <a:avLst/>
          </a:prstGeom>
          <a:ln w="0">
            <a:noFill/>
          </a:ln>
        </p:spPr>
      </p:pic>
      <p:sp>
        <p:nvSpPr>
          <p:cNvPr id="1740" name="Rectangle 5"/>
          <p:cNvSpPr/>
          <p:nvPr/>
        </p:nvSpPr>
        <p:spPr>
          <a:xfrm flipH="1">
            <a:off x="304200" y="1523880"/>
            <a:ext cx="83818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the data in relation to this teacher’s practi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Post-Observation Conference Planning Form</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knowledge effective practi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 area for growth</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desired outcome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 questions to facilitate self-reflection &am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uggestions</a:t>
            </a:r>
            <a:endParaRPr b="0" lang="en-US" sz="2800" spc="-1" strike="noStrike">
              <a:solidFill>
                <a:srgbClr val="000000"/>
              </a:solidFill>
              <a:latin typeface="Arial"/>
            </a:endParaRPr>
          </a:p>
        </p:txBody>
      </p:sp>
      <p:sp>
        <p:nvSpPr>
          <p:cNvPr id="17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60F0-0829-4D2C-A8A7-CCBFF0C500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2" name="TextBox 9"/>
          <p:cNvSpPr/>
          <p:nvPr/>
        </p:nvSpPr>
        <p:spPr>
          <a:xfrm>
            <a:off x="1153440" y="304920"/>
            <a:ext cx="62845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lanning the </a:t>
            </a:r>
            <a:r>
              <a:rPr b="0" lang="en-US" sz="4000" spc="-1" strike="noStrike">
                <a:solidFill>
                  <a:srgbClr val="ff0000"/>
                </a:solidFill>
                <a:latin typeface="Calibri"/>
              </a:rPr>
              <a:t>Post-Con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1"/>
          <p:cNvSpPr/>
          <p:nvPr/>
        </p:nvSpPr>
        <p:spPr>
          <a:xfrm>
            <a:off x="152280" y="152280"/>
            <a:ext cx="8686800" cy="566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ring the Post-conference the Observer m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eport what he or she saw students doing during the lesson or the teacher and observer may examine student work products</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e the findings and data collection from the observation or from the student work to initiate a discussion with the teacher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 the collected data with the teacher to provoke questions and/or to seek  instructional strategies for establishing a more student-centered classroom environment.</a:t>
            </a:r>
            <a:endParaRPr b="0" lang="en-US" sz="2600" spc="-1" strike="noStrike">
              <a:solidFill>
                <a:srgbClr val="000000"/>
              </a:solidFill>
              <a:latin typeface="Arial"/>
            </a:endParaRPr>
          </a:p>
        </p:txBody>
      </p:sp>
      <p:sp>
        <p:nvSpPr>
          <p:cNvPr id="17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A974-AA10-49D2-A2D9-1EA65A1E8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5" name="Picture 5" descr="questions.jpg"/>
          <p:cNvPicPr/>
          <p:nvPr/>
        </p:nvPicPr>
        <p:blipFill>
          <a:blip r:embed="rId1"/>
          <a:stretch/>
        </p:blipFill>
        <p:spPr>
          <a:xfrm>
            <a:off x="990720" y="685800"/>
            <a:ext cx="6949800" cy="5211720"/>
          </a:xfrm>
          <a:prstGeom prst="rect">
            <a:avLst/>
          </a:prstGeom>
          <a:ln w="0">
            <a:noFill/>
          </a:ln>
        </p:spPr>
      </p:pic>
      <p:sp>
        <p:nvSpPr>
          <p:cNvPr id="17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BFC3-2675-49FD-A131-41EBB1DDA3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8"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9"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FFEC-D51B-48BC-AA27-CBEE1E83A3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3" descr=""/>
          <p:cNvPicPr/>
          <p:nvPr/>
        </p:nvPicPr>
        <p:blipFill>
          <a:blip r:embed="rId1"/>
          <a:stretch/>
        </p:blipFill>
        <p:spPr>
          <a:xfrm rot="20986200">
            <a:off x="6490800" y="210600"/>
            <a:ext cx="2529000" cy="1619280"/>
          </a:xfrm>
          <a:prstGeom prst="rect">
            <a:avLst/>
          </a:prstGeom>
          <a:ln w="0">
            <a:noFill/>
          </a:ln>
        </p:spPr>
      </p:pic>
      <p:sp>
        <p:nvSpPr>
          <p:cNvPr id="1752"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53"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4"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5"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8710-8EDD-48B4-93C8-6EE00C5F555B}"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de-bar conversation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C9AF-7EBF-4150-BE70-CFDE32998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75EE-677A-4A0B-8690-A819EBADB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B819-A840-4685-B5C6-BA681CB045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33"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Content Placeholder 5" descr=""/>
          <p:cNvPicPr/>
          <p:nvPr/>
        </p:nvPicPr>
        <p:blipFill>
          <a:blip r:embed="rId1"/>
          <a:stretch/>
        </p:blipFill>
        <p:spPr>
          <a:xfrm>
            <a:off x="665280" y="1122480"/>
            <a:ext cx="7826400" cy="4913280"/>
          </a:xfrm>
          <a:prstGeom prst="rect">
            <a:avLst/>
          </a:prstGeom>
          <a:ln w="0">
            <a:noFill/>
          </a:ln>
        </p:spPr>
      </p:pic>
      <p:sp>
        <p:nvSpPr>
          <p:cNvPr id="163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05C4-314A-4C3F-BCB9-682F9FD2B725}"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36"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37"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38"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39"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40"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3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3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1</a:t>
            </a:r>
            <a:r>
              <a:rPr b="1" lang="en-US" sz="5400" spc="-1" strike="noStrike" baseline="30000">
                <a:solidFill>
                  <a:srgbClr val="000000"/>
                </a:solidFill>
                <a:latin typeface="Arial"/>
              </a:rPr>
              <a:t>st</a:t>
            </a:r>
            <a:r>
              <a:rPr b="1" lang="en-US" sz="5400" spc="-1" strike="noStrike">
                <a:solidFill>
                  <a:srgbClr val="000000"/>
                </a:solidFill>
                <a:latin typeface="Arial"/>
              </a:rPr>
              <a:t> Century Students</a:t>
            </a:r>
            <a:endParaRPr b="0" lang="en-US" sz="5400" spc="-1" strike="noStrike">
              <a:solidFill>
                <a:srgbClr val="000000"/>
              </a:solidFill>
              <a:latin typeface="Calibri"/>
            </a:endParaRPr>
          </a:p>
        </p:txBody>
      </p:sp>
      <p:pic>
        <p:nvPicPr>
          <p:cNvPr id="1642" name="Picture 5" descr=""/>
          <p:cNvPicPr/>
          <p:nvPr/>
        </p:nvPicPr>
        <p:blipFill>
          <a:blip r:embed="rId1"/>
          <a:stretch/>
        </p:blipFill>
        <p:spPr>
          <a:xfrm>
            <a:off x="609480" y="1905120"/>
            <a:ext cx="2279880" cy="3429000"/>
          </a:xfrm>
          <a:prstGeom prst="rect">
            <a:avLst/>
          </a:prstGeom>
          <a:ln w="0">
            <a:noFill/>
          </a:ln>
        </p:spPr>
      </p:pic>
      <p:pic>
        <p:nvPicPr>
          <p:cNvPr id="1643" name="Picture 4" descr=""/>
          <p:cNvPicPr/>
          <p:nvPr/>
        </p:nvPicPr>
        <p:blipFill>
          <a:blip r:embed="rId2"/>
          <a:stretch/>
        </p:blipFill>
        <p:spPr>
          <a:xfrm>
            <a:off x="6019920" y="1752480"/>
            <a:ext cx="2657520" cy="3733920"/>
          </a:xfrm>
          <a:prstGeom prst="rect">
            <a:avLst/>
          </a:prstGeom>
          <a:ln w="0">
            <a:noFill/>
          </a:ln>
        </p:spPr>
      </p:pic>
      <p:pic>
        <p:nvPicPr>
          <p:cNvPr id="1644" name="Picture 2" descr=""/>
          <p:cNvPicPr/>
          <p:nvPr/>
        </p:nvPicPr>
        <p:blipFill>
          <a:blip r:embed="rId3"/>
          <a:stretch/>
        </p:blipFill>
        <p:spPr>
          <a:xfrm>
            <a:off x="3657600" y="1905120"/>
            <a:ext cx="2209680" cy="3504960"/>
          </a:xfrm>
          <a:prstGeom prst="rect">
            <a:avLst/>
          </a:prstGeom>
          <a:ln w="0">
            <a:noFill/>
          </a:ln>
        </p:spPr>
      </p:pic>
      <p:sp>
        <p:nvSpPr>
          <p:cNvPr id="16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F871-FFDF-432B-9409-5BC06F31E1B2}"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647"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9E01-74D2-4D45-9175-4DF5646DEA2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2-11T21:47:28Z</dcterms:modified>
  <cp:revision>123</cp:revision>
  <dc:subject/>
  <dc:title>RESA Implementation Sessions Day 2 Process</dc:title>
</cp:coreProperties>
</file>